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B49-1EA9-4BE8-A8CA-6240BDE1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75B-462A-490D-9652-383AB693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A90-38E8-4E3E-ADFB-0A646213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88C7-BDFC-40DA-8588-8E418AA8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8A6B-3401-4DE7-AD8C-97ADB532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CABC-6DDD-4C19-9664-D0968D11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2A0E-C1D0-455A-9A49-5616AE78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A9DF-DC9A-456D-8CA6-293EC605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4E0-7D8B-4253-BE54-7E785B4A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22EC-315C-4AE3-9107-F65EA3C4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9B75-D52A-4B81-81C7-B471B4B5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1E6D-CBB8-469A-831B-415FD6C5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A88C-2A9D-4B35-9364-C8D7FFD35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nfront2"/>
          <p:cNvPicPr/>
          <p:nvPr/>
        </p:nvPicPr>
        <p:blipFill>
          <a:blip r:embed="rId1"/>
          <a:stretch/>
        </p:blipFill>
        <p:spPr>
          <a:xfrm rot="310200">
            <a:off x="1619280" y="1214280"/>
            <a:ext cx="5905440" cy="442944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 rot="20871600">
            <a:off x="468360" y="2133720"/>
            <a:ext cx="8134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3" name="Picture 8" descr="istockphoto_786289_weather_symbols"/>
          <p:cNvPicPr/>
          <p:nvPr/>
        </p:nvPicPr>
        <p:blipFill>
          <a:blip r:embed="rId2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0" name="Picture 3" descr="istockphoto_786289_weather_symbols"/>
          <p:cNvPicPr/>
          <p:nvPr/>
        </p:nvPicPr>
        <p:blipFill>
          <a:blip r:embed="rId1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121" name="Oval 4"/>
          <p:cNvSpPr/>
          <p:nvPr/>
        </p:nvSpPr>
        <p:spPr>
          <a:xfrm>
            <a:off x="3348000" y="2708280"/>
            <a:ext cx="1513080" cy="12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 flipH="1">
            <a:off x="4787640" y="2133720"/>
            <a:ext cx="64908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050920" y="692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5.Wind direction, cloud cover, weather and wind sp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5076720" y="177336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0"/>
          <p:cNvSpPr/>
          <p:nvPr/>
        </p:nvSpPr>
        <p:spPr>
          <a:xfrm>
            <a:off x="4067280" y="2708280"/>
            <a:ext cx="792000" cy="720720"/>
          </a:xfrm>
          <a:custGeom>
            <a:avLst/>
            <a:gdLst>
              <a:gd name="textAreaLeft" fmla="*/ 0 w 792000"/>
              <a:gd name="textAreaRight" fmla="*/ 792360 w 792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499" h="454">
                <a:moveTo>
                  <a:pt x="0" y="0"/>
                </a:moveTo>
                <a:lnTo>
                  <a:pt x="0" y="454"/>
                </a:lnTo>
                <a:lnTo>
                  <a:pt x="499" y="454"/>
                </a:lnTo>
                <a:lnTo>
                  <a:pt x="454" y="227"/>
                </a:lnTo>
                <a:lnTo>
                  <a:pt x="318" y="91"/>
                </a:lnTo>
                <a:lnTo>
                  <a:pt x="4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 rot="18825600">
            <a:off x="4375080" y="3265560"/>
            <a:ext cx="43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8" name="Picture 3" descr="istockphoto_786289_weather_symbols"/>
          <p:cNvPicPr/>
          <p:nvPr/>
        </p:nvPicPr>
        <p:blipFill>
          <a:blip r:embed="rId1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129" name="Oval 4"/>
          <p:cNvSpPr/>
          <p:nvPr/>
        </p:nvSpPr>
        <p:spPr>
          <a:xfrm>
            <a:off x="4140360" y="2565360"/>
            <a:ext cx="1512720" cy="12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050920" y="692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5.Wind sp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4356000" y="2708280"/>
            <a:ext cx="1079640" cy="10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33" name="Picture 3" descr="istockphoto_786289_weather_symbols"/>
          <p:cNvPicPr/>
          <p:nvPr/>
        </p:nvPicPr>
        <p:blipFill>
          <a:blip r:embed="rId1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134" name="Oval 4"/>
          <p:cNvSpPr/>
          <p:nvPr/>
        </p:nvSpPr>
        <p:spPr>
          <a:xfrm>
            <a:off x="3348000" y="2708280"/>
            <a:ext cx="1513080" cy="12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 flipV="1">
            <a:off x="4788000" y="3068640"/>
            <a:ext cx="1512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050920" y="692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6.Cloud cover and weather, wind speed and wind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708360" y="4292640"/>
            <a:ext cx="7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 flipV="1">
            <a:off x="6227640" y="2707920"/>
            <a:ext cx="2890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995640" y="4437000"/>
            <a:ext cx="144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 rot="18825600">
            <a:off x="3871800" y="3986280"/>
            <a:ext cx="43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3348000" y="2708280"/>
            <a:ext cx="863640" cy="129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 flipV="1">
            <a:off x="5940360" y="2636640"/>
            <a:ext cx="36036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4" name="Picture 3" descr="istockphoto_786289_weather_symbols"/>
          <p:cNvPicPr/>
          <p:nvPr/>
        </p:nvPicPr>
        <p:blipFill>
          <a:blip r:embed="rId1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145" name="Oval 4"/>
          <p:cNvSpPr/>
          <p:nvPr/>
        </p:nvSpPr>
        <p:spPr>
          <a:xfrm>
            <a:off x="3348000" y="2708280"/>
            <a:ext cx="1513080" cy="12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 flipV="1">
            <a:off x="4788000" y="3068640"/>
            <a:ext cx="1512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050920" y="692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7.Wind sp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708360" y="4292640"/>
            <a:ext cx="7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3564000" y="2852640"/>
            <a:ext cx="1079280" cy="10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4"/>
          <p:cNvSpPr/>
          <p:nvPr/>
        </p:nvSpPr>
        <p:spPr>
          <a:xfrm flipV="1">
            <a:off x="6227640" y="2707920"/>
            <a:ext cx="2890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52" name="Picture 3" descr="istockphoto_786289_weather_symbols"/>
          <p:cNvPicPr/>
          <p:nvPr/>
        </p:nvPicPr>
        <p:blipFill>
          <a:blip r:embed="rId1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153" name="Oval 4"/>
          <p:cNvSpPr/>
          <p:nvPr/>
        </p:nvSpPr>
        <p:spPr>
          <a:xfrm>
            <a:off x="3348000" y="2708280"/>
            <a:ext cx="1513080" cy="1297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 flipV="1">
            <a:off x="4788000" y="3068640"/>
            <a:ext cx="1512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050920" y="692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8.Wea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708360" y="4292640"/>
            <a:ext cx="7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9"/>
          <p:cNvSpPr/>
          <p:nvPr/>
        </p:nvSpPr>
        <p:spPr>
          <a:xfrm flipV="1">
            <a:off x="6227640" y="2707920"/>
            <a:ext cx="2890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4"/>
          <p:cNvSpPr/>
          <p:nvPr/>
        </p:nvSpPr>
        <p:spPr>
          <a:xfrm rot="10800000">
            <a:off x="3708000" y="4221000"/>
            <a:ext cx="792360" cy="432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0" name="Picture 3" descr="istockphoto_786289_weather_symbols"/>
          <p:cNvPicPr/>
          <p:nvPr/>
        </p:nvPicPr>
        <p:blipFill>
          <a:blip r:embed="rId1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161" name="Oval 4"/>
          <p:cNvSpPr/>
          <p:nvPr/>
        </p:nvSpPr>
        <p:spPr>
          <a:xfrm>
            <a:off x="3348000" y="2708280"/>
            <a:ext cx="1513080" cy="1297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 flipV="1">
            <a:off x="4788000" y="3068640"/>
            <a:ext cx="1512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050920" y="692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9.Wea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3708360" y="4292640"/>
            <a:ext cx="7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 flipV="1">
            <a:off x="6227640" y="2707920"/>
            <a:ext cx="2890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 flipH="1">
            <a:off x="3419640" y="4365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 flipH="1">
            <a:off x="3419640" y="4581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1"/>
          <p:cNvSpPr/>
          <p:nvPr/>
        </p:nvSpPr>
        <p:spPr>
          <a:xfrm flipH="1">
            <a:off x="3419640" y="4797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0" name="Picture 3" descr="istockphoto_786289_weather_symbols"/>
          <p:cNvPicPr/>
          <p:nvPr/>
        </p:nvPicPr>
        <p:blipFill>
          <a:blip r:embed="rId1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171" name="Oval 4"/>
          <p:cNvSpPr/>
          <p:nvPr/>
        </p:nvSpPr>
        <p:spPr>
          <a:xfrm>
            <a:off x="3348000" y="2708280"/>
            <a:ext cx="1513080" cy="12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 flipV="1">
            <a:off x="4211640" y="400500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050920" y="692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10 Wind direction and sp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708360" y="4292640"/>
            <a:ext cx="7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4211640" y="5157720"/>
            <a:ext cx="4316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3012092526_8dfbc93d24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WordArt 4"/>
          <p:cNvSpPr txBox="1"/>
          <p:nvPr/>
        </p:nvSpPr>
        <p:spPr>
          <a:xfrm>
            <a:off x="971640" y="1844640"/>
            <a:ext cx="727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oud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900000" y="3933000"/>
            <a:ext cx="748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 wandered lonely as a cloud, That floats on high o'er vales and hill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cloud.mp3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6" descr="cloud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8" descr="2195629207_f6cfdd4303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WordArt 5"/>
          <p:cNvSpPr txBox="1"/>
          <p:nvPr/>
        </p:nvSpPr>
        <p:spPr>
          <a:xfrm>
            <a:off x="250920" y="5877000"/>
            <a:ext cx="1485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rru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5" name="Picture 6" descr="cloudchart"/>
          <p:cNvPicPr/>
          <p:nvPr/>
        </p:nvPicPr>
        <p:blipFill>
          <a:blip r:embed="rId2"/>
          <a:srcRect l="25594" t="10093" r="32291" b="60518"/>
          <a:stretch/>
        </p:blipFill>
        <p:spPr>
          <a:xfrm>
            <a:off x="0" y="0"/>
            <a:ext cx="3851280" cy="2016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9"/>
          <p:cNvSpPr/>
          <p:nvPr/>
        </p:nvSpPr>
        <p:spPr>
          <a:xfrm>
            <a:off x="1547640" y="2492280"/>
            <a:ext cx="59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Thin wispy high clou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08b"/>
          <p:cNvPicPr/>
          <p:nvPr/>
        </p:nvPicPr>
        <p:blipFill>
          <a:blip r:embed="rId1"/>
          <a:stretch/>
        </p:blipFill>
        <p:spPr>
          <a:xfrm>
            <a:off x="539640" y="692280"/>
            <a:ext cx="3810240" cy="48290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4716360" y="1052640"/>
            <a:ext cx="3888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This is an example of a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synoptic chart</a:t>
            </a: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Weather is recorded on the chart using special symbols, which represent the conditions at weather station at that present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 flipH="1">
            <a:off x="3851280" y="2997360"/>
            <a:ext cx="1441440" cy="86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istockphoto_786289_weather_symbols"/>
          <p:cNvPicPr/>
          <p:nvPr/>
        </p:nvPicPr>
        <p:blipFill>
          <a:blip r:embed="rId2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48" name="WordArt 9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8" descr="476385434_416bce2f5d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WordArt 3"/>
          <p:cNvSpPr txBox="1"/>
          <p:nvPr/>
        </p:nvSpPr>
        <p:spPr>
          <a:xfrm>
            <a:off x="250920" y="5734080"/>
            <a:ext cx="3600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rrocumulu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692360" y="1773360"/>
            <a:ext cx="59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High, small, puffy and patc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cloudchart"/>
          <p:cNvPicPr/>
          <p:nvPr/>
        </p:nvPicPr>
        <p:blipFill>
          <a:blip r:embed="rId2"/>
          <a:srcRect l="5122" t="9449" r="71271" b="56298"/>
          <a:stretch/>
        </p:blipFill>
        <p:spPr>
          <a:xfrm>
            <a:off x="0" y="0"/>
            <a:ext cx="2158920" cy="2349360"/>
          </a:xfrm>
          <a:prstGeom prst="rect">
            <a:avLst/>
          </a:prstGeom>
          <a:ln w="0">
            <a:noFill/>
          </a:ln>
        </p:spPr>
      </p:pic>
    </p:spTree>
  </p:cSld>
  <p:transition advTm="34000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7" descr="922333190_cdf599dc97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WordArt 3"/>
          <p:cNvSpPr txBox="1"/>
          <p:nvPr/>
        </p:nvSpPr>
        <p:spPr>
          <a:xfrm>
            <a:off x="250920" y="5734080"/>
            <a:ext cx="3600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umulonimbu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692360" y="1413000"/>
            <a:ext cx="59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Tall, fluffy angry looking grey clouds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cloudchart"/>
          <p:cNvPicPr/>
          <p:nvPr/>
        </p:nvPicPr>
        <p:blipFill>
          <a:blip r:embed="rId2"/>
          <a:srcRect l="69291" t="9449" r="0" b="11156"/>
          <a:stretch/>
        </p:blipFill>
        <p:spPr>
          <a:xfrm>
            <a:off x="0" y="0"/>
            <a:ext cx="2808360" cy="5445000"/>
          </a:xfrm>
          <a:prstGeom prst="rect">
            <a:avLst/>
          </a:prstGeom>
          <a:ln w="0">
            <a:noFill/>
          </a:ln>
        </p:spPr>
      </p:pic>
    </p:spTree>
  </p:cSld>
  <p:transition advTm="33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8" descr="2151408442_6095674019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loudchart"/>
          <p:cNvPicPr/>
          <p:nvPr/>
        </p:nvPicPr>
        <p:blipFill>
          <a:blip r:embed="rId2"/>
          <a:srcRect l="7484" t="44637" r="61027" b="37410"/>
          <a:stretch/>
        </p:blipFill>
        <p:spPr>
          <a:xfrm>
            <a:off x="0" y="0"/>
            <a:ext cx="4175280" cy="1785960"/>
          </a:xfrm>
          <a:prstGeom prst="rect">
            <a:avLst/>
          </a:prstGeom>
          <a:ln w="0">
            <a:noFill/>
          </a:ln>
        </p:spPr>
      </p:pic>
      <p:sp>
        <p:nvSpPr>
          <p:cNvPr id="197" name="WordArt 5"/>
          <p:cNvSpPr txBox="1"/>
          <p:nvPr/>
        </p:nvSpPr>
        <p:spPr>
          <a:xfrm>
            <a:off x="250920" y="5734080"/>
            <a:ext cx="3600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tocumulu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908000" y="2060640"/>
            <a:ext cx="597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Medium height, small puffy clouds, patchy li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307128317_d8d3fc9928_b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loudchart"/>
          <p:cNvPicPr/>
          <p:nvPr/>
        </p:nvPicPr>
        <p:blipFill>
          <a:blip r:embed="rId2"/>
          <a:srcRect l="32741" t="39558" r="27619" b="37990"/>
          <a:stretch/>
        </p:blipFill>
        <p:spPr>
          <a:xfrm>
            <a:off x="0" y="0"/>
            <a:ext cx="3995640" cy="1698480"/>
          </a:xfrm>
          <a:prstGeom prst="rect">
            <a:avLst/>
          </a:prstGeom>
          <a:ln w="0">
            <a:noFill/>
          </a:ln>
        </p:spPr>
      </p:pic>
      <p:sp>
        <p:nvSpPr>
          <p:cNvPr id="201" name="WordArt 4"/>
          <p:cNvSpPr txBox="1"/>
          <p:nvPr/>
        </p:nvSpPr>
        <p:spPr>
          <a:xfrm>
            <a:off x="250920" y="5734080"/>
            <a:ext cx="3600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tostratu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2360" y="2205000"/>
            <a:ext cx="59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Thin and unifo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8" descr="2359356669_daa3c21e92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WordArt 4"/>
          <p:cNvSpPr txBox="1"/>
          <p:nvPr/>
        </p:nvSpPr>
        <p:spPr>
          <a:xfrm>
            <a:off x="250920" y="5734080"/>
            <a:ext cx="3600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umulu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835280" y="836640"/>
            <a:ext cx="59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Low, puffy and piled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cloudchart"/>
          <p:cNvPicPr/>
          <p:nvPr/>
        </p:nvPicPr>
        <p:blipFill>
          <a:blip r:embed="rId2"/>
          <a:srcRect l="54728" t="61559" r="29531" b="15344"/>
          <a:stretch/>
        </p:blipFill>
        <p:spPr>
          <a:xfrm>
            <a:off x="0" y="0"/>
            <a:ext cx="1938240" cy="2133720"/>
          </a:xfrm>
          <a:prstGeom prst="rect">
            <a:avLst/>
          </a:prstGeom>
          <a:ln w="0">
            <a:noFill/>
          </a:ln>
        </p:spPr>
      </p:pic>
    </p:spTree>
  </p:cSld>
  <p:transition advTm="30000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0" descr="2149957153_339b30d1cc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WordArt 3"/>
          <p:cNvSpPr txBox="1"/>
          <p:nvPr/>
        </p:nvSpPr>
        <p:spPr>
          <a:xfrm>
            <a:off x="250920" y="5734080"/>
            <a:ext cx="3600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atu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547640" y="1557360"/>
            <a:ext cx="597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Uniform, thin to think layered clouds, ill-defin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cloudchart"/>
          <p:cNvPicPr/>
          <p:nvPr/>
        </p:nvPicPr>
        <p:blipFill>
          <a:blip r:embed="rId2"/>
          <a:srcRect l="17713" t="75217" r="43705" b="0"/>
          <a:stretch/>
        </p:blipFill>
        <p:spPr>
          <a:xfrm>
            <a:off x="0" y="0"/>
            <a:ext cx="3529080" cy="1700280"/>
          </a:xfrm>
          <a:prstGeom prst="rect">
            <a:avLst/>
          </a:prstGeom>
          <a:ln w="0">
            <a:noFill/>
          </a:ln>
        </p:spPr>
      </p:pic>
    </p:spTree>
  </p:cSld>
  <p:transition advTm="32000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9" descr="1298760843_aa884f5d09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WordArt 3"/>
          <p:cNvSpPr txBox="1"/>
          <p:nvPr/>
        </p:nvSpPr>
        <p:spPr>
          <a:xfrm>
            <a:off x="250920" y="5734080"/>
            <a:ext cx="3600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atocumulu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692360" y="2060640"/>
            <a:ext cx="597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Broad and flat on the bottom, puffy on t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cloudchart"/>
          <p:cNvPicPr/>
          <p:nvPr/>
        </p:nvPicPr>
        <p:blipFill>
          <a:blip r:embed="rId2"/>
          <a:srcRect l="-720" t="71309" r="74998" b="17621"/>
          <a:stretch/>
        </p:blipFill>
        <p:spPr>
          <a:xfrm>
            <a:off x="0" y="0"/>
            <a:ext cx="4103640" cy="1324080"/>
          </a:xfrm>
          <a:prstGeom prst="rect">
            <a:avLst/>
          </a:prstGeom>
          <a:ln w="0">
            <a:noFill/>
          </a:ln>
        </p:spPr>
      </p:pic>
    </p:spTree>
  </p:cSld>
  <p:transition advTm="32000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cloudchart"/>
          <p:cNvPicPr/>
          <p:nvPr/>
        </p:nvPicPr>
        <p:blipFill>
          <a:blip r:embed="rId1"/>
          <a:stretch/>
        </p:blipFill>
        <p:spPr>
          <a:xfrm>
            <a:off x="0" y="0"/>
            <a:ext cx="622764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6227640" y="836640"/>
            <a:ext cx="273528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irr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given to high altitude clouds- mean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isp of hai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given to mid-altitude clouds- mean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mb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prefix) 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mb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suffix)- is used for clouds that bring 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mul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mean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ea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refer to piles of clou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at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means l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ye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refers to flat wide layered clou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6"/>
          <p:cNvSpPr txBox="1"/>
          <p:nvPr/>
        </p:nvSpPr>
        <p:spPr>
          <a:xfrm>
            <a:off x="5796000" y="189000"/>
            <a:ext cx="30240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oud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8" name="WordArt 7"/>
          <p:cNvSpPr txBox="1"/>
          <p:nvPr/>
        </p:nvSpPr>
        <p:spPr>
          <a:xfrm>
            <a:off x="6948360" y="6237360"/>
            <a:ext cx="136692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arn</a:t>
            </a:r>
            <a:endParaRPr b="0" lang="en-US" sz="1800" spc="1" strike="noStrike">
              <a:ln w="38160">
                <a:solidFill>
                  <a:srgbClr val="ff33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29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g_wc_ukw3"/>
          <p:cNvPicPr/>
          <p:nvPr/>
        </p:nvPicPr>
        <p:blipFill>
          <a:blip r:embed="rId1"/>
          <a:stretch/>
        </p:blipFill>
        <p:spPr>
          <a:xfrm>
            <a:off x="1187280" y="333360"/>
            <a:ext cx="6480360" cy="589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istockphoto_786289_weather_symbols"/>
          <p:cNvPicPr/>
          <p:nvPr/>
        </p:nvPicPr>
        <p:blipFill>
          <a:blip r:embed="rId2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2916360" y="5950080"/>
            <a:ext cx="380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on't panic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5" descr="istockphoto_786289_weather_symbols"/>
          <p:cNvPicPr/>
          <p:nvPr/>
        </p:nvPicPr>
        <p:blipFill>
          <a:blip r:embed="rId1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>
            <a:off x="1258920" y="333360"/>
            <a:ext cx="1219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Oval 7"/>
          <p:cNvSpPr/>
          <p:nvPr/>
        </p:nvSpPr>
        <p:spPr>
          <a:xfrm>
            <a:off x="1547640" y="2637000"/>
            <a:ext cx="1513080" cy="129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3059280" y="3284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V="1">
            <a:off x="4572000" y="2852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g_wc_ukw3"/>
          <p:cNvPicPr/>
          <p:nvPr/>
        </p:nvPicPr>
        <p:blipFill>
          <a:blip r:embed="rId2"/>
          <a:srcRect l="62232" t="0" r="0" b="16942"/>
          <a:stretch/>
        </p:blipFill>
        <p:spPr>
          <a:xfrm>
            <a:off x="5940360" y="189000"/>
            <a:ext cx="2448000" cy="4895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3635280" y="400536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Where the wind has come from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1618920" y="5229360"/>
            <a:ext cx="3097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5"/>
          <p:cNvSpPr/>
          <p:nvPr/>
        </p:nvSpPr>
        <p:spPr>
          <a:xfrm flipH="1" flipV="1">
            <a:off x="3924360" y="335736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780000" y="1413000"/>
            <a:ext cx="194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The wind speed is shown by the ‘feathers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4500720" y="2349360"/>
            <a:ext cx="21564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132000" y="404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Five knots is added for each half a fea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1835280" y="59500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In an exam you would be given a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1258920" y="1484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10 kn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5364000" y="46530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Winds are named after their ori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6" descr="g_wc_ukw3"/>
          <p:cNvPicPr/>
          <p:nvPr/>
        </p:nvPicPr>
        <p:blipFill>
          <a:blip r:embed="rId1"/>
          <a:stretch/>
        </p:blipFill>
        <p:spPr>
          <a:xfrm>
            <a:off x="3780000" y="260280"/>
            <a:ext cx="5182920" cy="4714920"/>
          </a:xfrm>
          <a:prstGeom prst="rect">
            <a:avLst/>
          </a:prstGeom>
          <a:ln w="0">
            <a:noFill/>
          </a:ln>
        </p:spPr>
      </p:pic>
      <p:sp>
        <p:nvSpPr>
          <p:cNvPr id="70" name="WordArt 2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71" name="Picture 3" descr="istockphoto_786289_weather_symbols"/>
          <p:cNvPicPr/>
          <p:nvPr/>
        </p:nvPicPr>
        <p:blipFill>
          <a:blip r:embed="rId2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72" name="WordArt 4"/>
          <p:cNvSpPr txBox="1"/>
          <p:nvPr/>
        </p:nvSpPr>
        <p:spPr>
          <a:xfrm>
            <a:off x="1258920" y="333360"/>
            <a:ext cx="244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ther condition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Oval 5"/>
          <p:cNvSpPr/>
          <p:nvPr/>
        </p:nvSpPr>
        <p:spPr>
          <a:xfrm>
            <a:off x="1547640" y="2637000"/>
            <a:ext cx="1513080" cy="129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2411280" y="3933720"/>
            <a:ext cx="11527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 flipV="1">
            <a:off x="3564000" y="4221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1835280" y="59500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In an exam you would be given a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7"/>
          <p:cNvSpPr/>
          <p:nvPr/>
        </p:nvSpPr>
        <p:spPr>
          <a:xfrm>
            <a:off x="1619280" y="4149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8"/>
          <p:cNvSpPr/>
          <p:nvPr/>
        </p:nvSpPr>
        <p:spPr>
          <a:xfrm>
            <a:off x="1835280" y="4365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9"/>
          <p:cNvSpPr/>
          <p:nvPr/>
        </p:nvSpPr>
        <p:spPr>
          <a:xfrm>
            <a:off x="1835280" y="4076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1258920" y="1484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Eight Oktas- cloud c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1692360" y="4941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Heavy 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 flipH="1" flipV="1">
            <a:off x="1979640" y="4581000"/>
            <a:ext cx="2160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"/>
          <p:cNvSpPr/>
          <p:nvPr/>
        </p:nvSpPr>
        <p:spPr>
          <a:xfrm>
            <a:off x="2195640" y="1844640"/>
            <a:ext cx="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3995640" y="522936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Sometimes a number may represent the temp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971640" y="35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6"/>
          <p:cNvSpPr/>
          <p:nvPr/>
        </p:nvSpPr>
        <p:spPr>
          <a:xfrm flipH="1" flipV="1">
            <a:off x="1476000" y="3715920"/>
            <a:ext cx="259092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8" name="Picture 5" descr="istockphoto_786289_weather_symbols"/>
          <p:cNvPicPr/>
          <p:nvPr/>
        </p:nvPicPr>
        <p:blipFill>
          <a:blip r:embed="rId1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89" name="Oval 6"/>
          <p:cNvSpPr/>
          <p:nvPr/>
        </p:nvSpPr>
        <p:spPr>
          <a:xfrm>
            <a:off x="2987640" y="2421000"/>
            <a:ext cx="1513080" cy="129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4500720" y="29973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 rot="8625000">
            <a:off x="5795280" y="2852280"/>
            <a:ext cx="431640" cy="28908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276720" y="3860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14036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1"/>
          <p:cNvSpPr txBox="1"/>
          <p:nvPr/>
        </p:nvSpPr>
        <p:spPr>
          <a:xfrm rot="21026400">
            <a:off x="1907640" y="1125360"/>
            <a:ext cx="4172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ything wrong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1403280" y="400536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Snow, but no cloud c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5076720" y="364500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High temperature but sno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6443640" y="1989000"/>
            <a:ext cx="187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Unusually high winds, considering lack of cloud cover and temp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9" name="Picture 3" descr="istockphoto_786289_weather_symbols"/>
          <p:cNvPicPr/>
          <p:nvPr/>
        </p:nvPicPr>
        <p:blipFill>
          <a:blip r:embed="rId1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100" name="Oval 4"/>
          <p:cNvSpPr/>
          <p:nvPr/>
        </p:nvSpPr>
        <p:spPr>
          <a:xfrm>
            <a:off x="3348000" y="2708280"/>
            <a:ext cx="1513080" cy="12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 flipV="1">
            <a:off x="4788000" y="2636640"/>
            <a:ext cx="1439640" cy="50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2050920" y="692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1. Wind direction and sp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4" name="Picture 3" descr="istockphoto_786289_weather_symbols"/>
          <p:cNvPicPr/>
          <p:nvPr/>
        </p:nvPicPr>
        <p:blipFill>
          <a:blip r:embed="rId1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3348000" y="2708280"/>
            <a:ext cx="1513080" cy="12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V="1">
            <a:off x="4788000" y="3068640"/>
            <a:ext cx="1512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050920" y="692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2.Cloud cover and wea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708360" y="4292640"/>
            <a:ext cx="7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4067280" y="270828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6227640" y="2707920"/>
            <a:ext cx="2890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3995640" y="4437000"/>
            <a:ext cx="144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3" name="Picture 3" descr="istockphoto_786289_weather_symbols"/>
          <p:cNvPicPr/>
          <p:nvPr/>
        </p:nvPicPr>
        <p:blipFill>
          <a:blip r:embed="rId1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114" name="Oval 4"/>
          <p:cNvSpPr/>
          <p:nvPr/>
        </p:nvSpPr>
        <p:spPr>
          <a:xfrm>
            <a:off x="3348000" y="2708280"/>
            <a:ext cx="1513080" cy="12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 flipH="1">
            <a:off x="3058920" y="3933720"/>
            <a:ext cx="64908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050920" y="692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3.Wind direction and wind sp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3059280" y="49417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3203640" y="4724280"/>
            <a:ext cx="21600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7:24:28Z</dcterms:created>
  <dc:creator>Tony Cassidy</dc:creator>
  <dc:description/>
  <dc:language>en-US</dc:language>
  <cp:lastModifiedBy>Dell_02</cp:lastModifiedBy>
  <dcterms:modified xsi:type="dcterms:W3CDTF">2011-01-29T04:04:36Z</dcterms:modified>
  <cp:revision>5</cp:revision>
  <dc:subject/>
  <dc:title>Slide 1</dc:title>
</cp:coreProperties>
</file>